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A16-3605-4F4D-8A28-84F814FE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583-91FA-480C-904E-F424F88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9FB-3AB2-4EB5-9B74-2D889B3E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09A-43F3-4599-8546-E8F4ADEE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238-D253-45D6-BED5-FEAA69DA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78B-7A69-46CF-8972-B1A0D1A0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1EC-F0EB-4884-ABB5-1B3B02EC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4A5-9E6C-44B6-B20F-D92753FD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9FF-D10E-4AA4-8CDB-67B0D71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6EF-3C68-479D-8C27-F8CD120D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C4A-65F2-4C0B-A56B-4E6A8013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66C-6505-45D0-949C-594859B1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5A6-2723-4B58-A78D-EF527E060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9:12:52Z</dcterms:created>
  <dc:creator>jweiss</dc:creator>
  <dc:description/>
  <dc:language>en-US</dc:language>
  <cp:lastModifiedBy>jweiss</cp:lastModifiedBy>
  <dcterms:modified xsi:type="dcterms:W3CDTF">2008-10-24T19:12:57Z</dcterms:modified>
  <cp:revision>1</cp:revision>
  <dc:subject/>
  <dc:title>blah</dc:title>
</cp:coreProperties>
</file>